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4BB-B9DE-403F-8396-0EBBE87E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E4B-26F7-471D-B6A0-41E004BE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856-AE75-4F91-A456-CC0BC1AD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3E7-F1A5-4600-8A73-41E65C71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448-1968-4E2F-8A3A-FA1D42B8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AD7-D8C0-4C10-BDC0-2158A9B9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ADF-5EE7-4570-8A08-4F70D935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FCB-79BD-45E4-91BA-6A1806FC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2DF-4E6C-4844-9437-B4227F7A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E8C-F3EA-483B-BB6B-BA2FE41A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6AA-DDB6-4465-8361-9DD0091E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4D6-1672-4CBC-A6A3-FC87C151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067B-9AF3-4585-BF3A-F5E38F1C9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 D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ccharomy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om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uild with 43,426 papers, 44,690 abstracts and 3.2 million ke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port textpresso to a DBMS (mysql 5.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4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st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0.02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LAT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fi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data in 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980" t="14814" r="3921" b="5556"/>
          <a:stretch/>
        </p:blipFill>
        <p:spPr>
          <a:xfrm>
            <a:off x="457200" y="1752480"/>
            <a:ext cx="8458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7:36:52Z</dcterms:created>
  <dc:creator>Stan Dong</dc:creator>
  <dc:description/>
  <dc:language>en-US</dc:language>
  <cp:lastModifiedBy>Qing Dong</cp:lastModifiedBy>
  <dcterms:modified xsi:type="dcterms:W3CDTF">2006-06-28T01:54:43Z</dcterms:modified>
  <cp:revision>7</cp:revision>
  <dc:subject/>
  <dc:title>GMOD Meeting</dc:title>
</cp:coreProperties>
</file>